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wmf" ContentType="image/x-wmf"/>
  <Override PartName="/ppt/media/image24.wmf" ContentType="image/x-wmf"/>
  <Override PartName="/ppt/media/image23.wmf" ContentType="image/x-wmf"/>
  <Override PartName="/ppt/media/image7.wmf" ContentType="image/x-wmf"/>
  <Override PartName="/ppt/media/image6.png" ContentType="image/png"/>
  <Override PartName="/ppt/media/image14.wmf" ContentType="image/x-wmf"/>
  <Override PartName="/ppt/media/image32.wmf" ContentType="image/x-wmf"/>
  <Override PartName="/ppt/media/image29.png" ContentType="image/png"/>
  <Override PartName="/ppt/media/image10.wmf" ContentType="image/x-wmf"/>
  <Override PartName="/ppt/media/image12.wmf" ContentType="image/x-wmf"/>
  <Override PartName="/ppt/media/image5.png" ContentType="image/png"/>
  <Override PartName="/ppt/media/image13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30.wmf" ContentType="image/x-wmf"/>
  <Override PartName="/ppt/media/image31.wmf" ContentType="image/x-wmf"/>
  <Override PartName="/ppt/media/image3.wmf" ContentType="image/x-wmf"/>
  <Override PartName="/ppt/media/image26.wmf" ContentType="image/x-wmf"/>
  <Override PartName="/ppt/media/image25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media/image16.wmf" ContentType="image/x-wmf"/>
  <Override PartName="/ppt/media/image17.wmf" ContentType="image/x-wmf"/>
  <Override PartName="/ppt/media/image2.jpeg" ContentType="image/jpeg"/>
  <Override PartName="/ppt/media/image18.wmf" ContentType="image/x-wmf"/>
  <Override PartName="/ppt/media/image20.wmf" ContentType="image/x-wmf"/>
  <Override PartName="/ppt/media/image21.wmf" ContentType="image/x-wmf"/>
  <Override PartName="/ppt/media/image19.png" ContentType="image/png"/>
  <Override PartName="/ppt/media/image22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69C1-886F-4E6F-8EDA-749DFC90C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E6D-DFD9-4002-AEBC-B46C8606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B4CD-07D7-4CD2-890F-3C5D05AF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8E8F-3B19-4A35-8BBB-EB98A0581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C3B9-AD07-4865-9332-3BA10D606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F17-CDE5-460D-96C4-9E29E249A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9EF3-C858-4634-BFC1-99A2E5CF9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2491-3DB8-462F-838F-84A21AF95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8171-47B2-4193-8ED6-F3822AAA6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110E-F6B1-439E-A27E-F17407FF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586B-3B3F-4585-A2FA-C3A9886D3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D2CE-FAA3-4B9B-85B2-79BCCFC9D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1A79C-3701-4D33-9134-464FA3B84F2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7.wmf"/><Relationship Id="rId7" Type="http://schemas.openxmlformats.org/officeDocument/2006/relationships/image" Target="../media/image18.wmf"/><Relationship Id="rId8" Type="http://schemas.openxmlformats.org/officeDocument/2006/relationships/image" Target="../media/image19.png"/><Relationship Id="rId9" Type="http://schemas.openxmlformats.org/officeDocument/2006/relationships/image" Target="../media/image20.wmf"/><Relationship Id="rId10" Type="http://schemas.openxmlformats.org/officeDocument/2006/relationships/image" Target="../media/image21.wmf"/><Relationship Id="rId11" Type="http://schemas.openxmlformats.org/officeDocument/2006/relationships/image" Target="../media/image22.wmf"/><Relationship Id="rId12" Type="http://schemas.openxmlformats.org/officeDocument/2006/relationships/image" Target="../media/image23.wmf"/><Relationship Id="rId13" Type="http://schemas.openxmlformats.org/officeDocument/2006/relationships/image" Target="../media/image24.wmf"/><Relationship Id="rId14" Type="http://schemas.openxmlformats.org/officeDocument/2006/relationships/image" Target="../media/image25.wmf"/><Relationship Id="rId15" Type="http://schemas.openxmlformats.org/officeDocument/2006/relationships/image" Target="../media/image26.wmf"/><Relationship Id="rId16" Type="http://schemas.openxmlformats.org/officeDocument/2006/relationships/image" Target="../media/image27.wmf"/><Relationship Id="rId17" Type="http://schemas.openxmlformats.org/officeDocument/2006/relationships/image" Target="../media/image28.wmf"/><Relationship Id="rId18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СПОСОБ УПОТРЕБЛЕНИЯ ПИЩИ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4648320"/>
            <a:ext cx="9144000" cy="220968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20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500"/>
                            </p:stCondLst>
                            <p:childTnLst>
                              <p:par>
                                <p:cTn id="9" nodeType="afterEffect" fill="hold" presetClass="entr" presetID="16" presetSubtype="3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 flipH="1" rot="10800000">
            <a:off x="5638680" y="2514240"/>
            <a:ext cx="1779840" cy="2048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ПРОДУКТЫ, МЕШАЮЩИЕ ПИЩЕВАРЕНИ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240" y="2590560"/>
            <a:ext cx="3809880" cy="2895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Коф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Уксу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трые спец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105520" y="3352680"/>
            <a:ext cx="1403280" cy="25146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6705720" y="3962520"/>
            <a:ext cx="1425600" cy="15192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6553080" y="5562720"/>
            <a:ext cx="1219320" cy="5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990720" y="5073480"/>
            <a:ext cx="1687320" cy="13273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685800" y="5715000"/>
            <a:ext cx="457200" cy="42084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 flipH="1">
            <a:off x="1981080" y="5407200"/>
            <a:ext cx="1067040" cy="84132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1371600" y="5715000"/>
            <a:ext cx="762120" cy="6602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6"/>
          <a:stretch/>
        </p:blipFill>
        <p:spPr>
          <a:xfrm>
            <a:off x="838080" y="5715000"/>
            <a:ext cx="482760" cy="7588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7"/>
          <a:stretch/>
        </p:blipFill>
        <p:spPr>
          <a:xfrm>
            <a:off x="2895480" y="5334120"/>
            <a:ext cx="1524240" cy="12747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8"/>
          <a:stretch/>
        </p:blipFill>
        <p:spPr>
          <a:xfrm>
            <a:off x="7620120" y="4114800"/>
            <a:ext cx="1057320" cy="1992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9"/>
          <a:stretch/>
        </p:blipFill>
        <p:spPr>
          <a:xfrm>
            <a:off x="5257800" y="5345280"/>
            <a:ext cx="2286000" cy="13604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10"/>
          <a:stretch/>
        </p:blipFill>
        <p:spPr>
          <a:xfrm>
            <a:off x="5867280" y="4724280"/>
            <a:ext cx="1521000" cy="51444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УДАЧНЫЕ СОЧЕТА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286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Фрукты и овощ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Сахар, молоко и яйц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вощи и обильные десер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1"/>
          <a:stretch/>
        </p:blipFill>
        <p:spPr>
          <a:xfrm>
            <a:off x="3809880" y="5715000"/>
            <a:ext cx="1371600" cy="8636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12"/>
          <a:stretch/>
        </p:blipFill>
        <p:spPr>
          <a:xfrm>
            <a:off x="3048120" y="5867280"/>
            <a:ext cx="593640" cy="7588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13"/>
          <a:stretch/>
        </p:blipFill>
        <p:spPr>
          <a:xfrm>
            <a:off x="2362320" y="6095880"/>
            <a:ext cx="990360" cy="6048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14"/>
          <a:stretch/>
        </p:blipFill>
        <p:spPr>
          <a:xfrm>
            <a:off x="914400" y="5715000"/>
            <a:ext cx="1219320" cy="7761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15"/>
          <a:stretch/>
        </p:blipFill>
        <p:spPr>
          <a:xfrm>
            <a:off x="3505320" y="6172200"/>
            <a:ext cx="990360" cy="528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16"/>
          <a:stretch/>
        </p:blipFill>
        <p:spPr>
          <a:xfrm>
            <a:off x="2057400" y="6172200"/>
            <a:ext cx="411120" cy="4716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17"/>
          <a:stretch/>
        </p:blipFill>
        <p:spPr>
          <a:xfrm>
            <a:off x="2438280" y="6400800"/>
            <a:ext cx="384120" cy="2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905120" y="2743200"/>
            <a:ext cx="5943600" cy="310212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НЕ БОЛЬШОЕ РАЗНООБРАЗ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знообразие должно быть от приёма пищи к приёму, а не за один раз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ножество различных питательных веществ конкурируют за доступ к пищеварительным ферментам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ак же, слишком сложные блюда вызывают войну в желудке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КОНСИСТЕНЦИЯ ПИЩИ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3716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вёрдая и сухая пища предпочтительней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пособствует тщательному пережёвыван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" y="373392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Укрепляет зубы и желудо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" y="4281480"/>
            <a:ext cx="739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контролировать аппети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85800" y="4859280"/>
            <a:ext cx="7848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могает избавиться от пристрас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к слишком сладкой или солёной пищ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48520" y="3048120"/>
            <a:ext cx="2717640" cy="12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ЛЁГКИЕ УПРАЖНЕН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114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Лёгкие упражнения до приёма пищи способствуют хорошему аппетиту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гулка после еды способствует лучшему усвоению пищ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Помните: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ение воды в промежутках между приёмами пищи, правильная осанка и удобная одежда – очень важны для хорошего пищеварения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895320" y="1981080"/>
            <a:ext cx="33908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БУДЬТЕ БЛАГОДАРН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Группу студентов, думавших о приятном во время приёма пищи, сравнили с группой студентов, пытавшихся решать математические задач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У студентов первой группы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ее выделение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ее сильная щелочная среда слюн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больший уровень выделения ферменто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172200" y="2362320"/>
            <a:ext cx="2362320" cy="175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86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СОВЕТЫ ПО УПОТРЕБЛЕНИЮ ПИЩИ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Воздерживайтесь от перекусыв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Употребляйте пищу тёпло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щательно пережёвывайт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Твёрдая и сухая консистенция предпочтительнее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Не ешьте много разных продуктов за один приём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неудачных сочетаний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Избегайте продуктов, мешающих пищеварению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еред и после приёма пищи делайте лёгкие упражне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60520" indent="-560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Будьте благодарны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666880" y="2089080"/>
            <a:ext cx="4419720" cy="4300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457200" y="2286000"/>
          <a:ext cx="8305920" cy="4059360"/>
        </p:xfrm>
        <a:graphic>
          <a:graphicData uri="http://schemas.openxmlformats.org/drawingml/2006/table">
            <a:tbl>
              <a:tblPr/>
              <a:tblGrid>
                <a:gridCol w="4397400"/>
                <a:gridCol w="3908520"/>
              </a:tblGrid>
              <a:tr h="98568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лияние вида пищи, принимаемой через 2 часа после завтрака, на его переварива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4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одукты, принимаемые через 2 часа после завтрак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Время, когда остатки завтрака всё ещё находятся в желудк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0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стаканчик мороженного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дин бана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часа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 часов спуст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143000" y="2895480"/>
            <a:ext cx="1752480" cy="222264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5029200"/>
            <a:ext cx="2210040" cy="0"/>
          </a:xfrm>
          <a:prstGeom prst="line">
            <a:avLst/>
          </a:prstGeom>
          <a:ln w="572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819520"/>
            <a:ext cx="1752480" cy="2222280"/>
          </a:xfrm>
          <a:custGeom>
            <a:avLst/>
            <a:gdLst/>
            <a:ahLst/>
            <a:rect l="l" t="t" r="r" b="b"/>
            <a:pathLst>
              <a:path w="1104" h="1400">
                <a:moveTo>
                  <a:pt x="0" y="1400"/>
                </a:moveTo>
                <a:cubicBezTo>
                  <a:pt x="52" y="708"/>
                  <a:pt x="104" y="16"/>
                  <a:pt x="288" y="8"/>
                </a:cubicBezTo>
                <a:cubicBezTo>
                  <a:pt x="472" y="0"/>
                  <a:pt x="788" y="676"/>
                  <a:pt x="1104" y="1352"/>
                </a:cubicBezTo>
              </a:path>
            </a:pathLst>
          </a:custGeom>
          <a:noFill/>
          <a:ln w="5724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ВОЗДЕРЖИВАЙТЕСЬ ОТ ПЕРЕКУСЫВАНИ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1066680" y="2285640"/>
            <a:ext cx="0" cy="3429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066680" y="5715000"/>
            <a:ext cx="7239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6680" y="2298600"/>
            <a:ext cx="2667240" cy="2806920"/>
          </a:xfrm>
          <a:custGeom>
            <a:avLst/>
            <a:gdLst/>
            <a:ahLst/>
            <a:rect l="l" t="t" r="r" b="b"/>
            <a:pathLst>
              <a:path w="1680" h="1768">
                <a:moveTo>
                  <a:pt x="0" y="1768"/>
                </a:moveTo>
                <a:cubicBezTo>
                  <a:pt x="72" y="1188"/>
                  <a:pt x="144" y="608"/>
                  <a:pt x="288" y="328"/>
                </a:cubicBezTo>
                <a:cubicBezTo>
                  <a:pt x="432" y="48"/>
                  <a:pt x="632" y="0"/>
                  <a:pt x="864" y="88"/>
                </a:cubicBezTo>
                <a:cubicBezTo>
                  <a:pt x="1096" y="176"/>
                  <a:pt x="1388" y="516"/>
                  <a:pt x="1680" y="85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3920" y="2362320"/>
            <a:ext cx="1600200" cy="130788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5334120" y="234936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934320" y="2286000"/>
            <a:ext cx="1600200" cy="1308240"/>
          </a:xfrm>
          <a:custGeom>
            <a:avLst/>
            <a:gdLst/>
            <a:ahLst/>
            <a:rect l="l" t="t" r="r" b="b"/>
            <a:pathLst>
              <a:path w="1008" h="824">
                <a:moveTo>
                  <a:pt x="0" y="824"/>
                </a:moveTo>
                <a:cubicBezTo>
                  <a:pt x="60" y="420"/>
                  <a:pt x="120" y="16"/>
                  <a:pt x="288" y="8"/>
                </a:cubicBezTo>
                <a:cubicBezTo>
                  <a:pt x="456" y="0"/>
                  <a:pt x="732" y="388"/>
                  <a:pt x="1008" y="776"/>
                </a:cubicBezTo>
              </a:path>
            </a:pathLst>
          </a:custGeom>
          <a:noFill/>
          <a:ln w="381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втра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4191120"/>
            <a:ext cx="3047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ерекусыва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238880" y="419112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бе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-1081440" y="4035600"/>
            <a:ext cx="335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ислота в желуд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733920" y="594360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рем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733920" y="3581280"/>
            <a:ext cx="3200400" cy="470160"/>
          </a:xfrm>
          <a:custGeom>
            <a:avLst/>
            <a:gdLst/>
            <a:ahLst/>
            <a:rect l="l" t="t" r="r" b="b"/>
            <a:pathLst>
              <a:path w="2016" h="296">
                <a:moveTo>
                  <a:pt x="0" y="48"/>
                </a:moveTo>
                <a:cubicBezTo>
                  <a:pt x="336" y="172"/>
                  <a:pt x="672" y="296"/>
                  <a:pt x="1008" y="288"/>
                </a:cubicBezTo>
                <a:cubicBezTo>
                  <a:pt x="1344" y="280"/>
                  <a:pt x="1680" y="140"/>
                  <a:pt x="2016" y="0"/>
                </a:cubicBezTo>
              </a:path>
            </a:pathLst>
          </a:custGeom>
          <a:noFill/>
          <a:ln cap="rnd" w="38160">
            <a:solidFill>
              <a:srgbClr val="3333cc"/>
            </a:solidFill>
            <a:custDash>
              <a:ds d="100000" sp="1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2057400" y="1600200"/>
            <a:ext cx="4916520" cy="4572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УПОТРЕБЛЯЙТЕ ПИЩУ ТЁПЛО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2133720"/>
            <a:ext cx="853416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потребление как горячей, так и холодной пищи задерживает пищевар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В тщательно проведённом исследовании 2064 людей, больных раком желудка, были рассмотрены для определения возможной причины заболевания. Результаты исследования показали, что 17% из группы, предпочитающей горячую пищу, имели самый высокий риск заболевания раком желуд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ФЛЕТЧЕРИЗМ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38098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удучи хронически больным разработал методику жев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200400"/>
            <a:ext cx="40384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олностью излечился     и издал несколько бестселлер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52280" y="4495680"/>
            <a:ext cx="358164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ыл забыт из-за утомительности и            малоэстетичности мето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0" y="2209680"/>
            <a:ext cx="41148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ТЩАТЕЛЬНО ПЕРЕЖЁВЫВАЙТЕ ПИЩ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80520" y="2819520"/>
            <a:ext cx="48769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«Ешьте медленно, и тогд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слюна будет тщательно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перемешиваться с пищей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Элен Уай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</a:rPr>
              <a:t>«Советы по пище и питанию»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5410080" y="1981080"/>
            <a:ext cx="3276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5T11:40:46Z</dcterms:created>
  <dc:creator>Ostapenco</dc:creator>
  <dc:description/>
  <dc:language>en-US</dc:language>
  <cp:lastModifiedBy>Черевичная Вера Петровна</cp:lastModifiedBy>
  <dcterms:modified xsi:type="dcterms:W3CDTF">2007-05-15T18:46:22Z</dcterms:modified>
  <cp:revision>40</cp:revision>
  <dc:subject/>
  <dc:title>СПОСОБ УПОТРЕБЛЕНИЯ ПИЩИ</dc:title>
</cp:coreProperties>
</file>